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1273-636A-4AF8-8A9A-D4E80CA70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4D50-59DC-4813-87FC-C5E2EE21C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DB28-8E16-4B5D-8202-4EAB50697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A429-C3B7-4480-AF2F-FF38AF575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F3DA1-3C10-415B-A2F0-866B02EEF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BC380-D5A1-482F-AA19-BB8B4B106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CD2C0-62B4-4EF5-BDBD-32CA8421F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3A1B7-D1A5-4D32-B6B2-8E1EDA6A3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882D3-7A20-472C-8F19-0B32AF49A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2CECC-A6A8-480D-93F2-0ADE33A03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A9484-3746-4E93-B930-C94FE5996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8260-6999-45BA-884D-CB1692D2C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F7AAF-7762-44E7-97BB-8F2D18D9B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81BD4-16BA-462C-A276-E0353A239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50D6B-153E-415A-A079-FCEA4F405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409A4-DE28-4446-A400-E571EB6E6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61993-EB47-43FB-851B-440BFCA5A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15B4-83B1-42EB-83CB-32DD49A9D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31E6-1440-43A3-923B-2BB0F99D3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38C3-22E4-489F-A948-9D8A0C3B2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2342-A476-4BD5-BF72-C18CC1A33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6B08-9D14-43EB-93F9-EB01AC0F3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67CB-F3F3-4F5D-B38B-BA4527BE7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4A92-19FE-4B2E-B093-9ED634C65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0C5AC-4BB4-4523-BCC9-C9747F49F204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0CCD3-9FD9-43F4-BEA2-E28185E8E3A1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beep.com/" TargetMode="External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13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Fujitsu%20ESPRIMO%20Q5010%20-%20Factor%20de%20forma%20ultrapeque&#241;o%20-%20sin%20CPU%20-%20RAM%200%20MB.mht" TargetMode="External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Fujitsu%20ESPRIMO%20Q5010%20-%20Factor%20de%20forma%20ultrapeque&#241;o%20-%20sin%20CPU%20-%20RAM%200%20MB.mht" TargetMode="External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c1302"/>
                </a:solidFill>
                <a:latin typeface="Arial"/>
              </a:rPr>
              <a:t>PRESUPUESTO DE INFORMÁTICA</a:t>
            </a:r>
            <a:endParaRPr b="1" lang="en-US" sz="48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ra Liceras Vic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ina Fernández Lópe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º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PRESUPUESTO 1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-149400" y="8082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-149400" y="8082000"/>
            <a:ext cx="9029880" cy="57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UESTO DE INFORMÁTICA:       Sara y Mar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           </a:t>
            </a: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ORDENADOR </a:t>
            </a:r>
            <a:br>
              <a:rPr sz="3900"/>
            </a:b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             COMPLETO 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755640" y="1628640"/>
            <a:ext cx="2762280" cy="276228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4067280" y="1916280"/>
            <a:ext cx="468144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 un ordenador personal con Windows Vista Capable con un factor de forma ultra pequeño, pesa 1.7 Kg. , sin disco duro, 2 GB de memoria RA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enda: </a:t>
            </a:r>
            <a:r>
              <a:rPr b="0" lang="en-US" sz="1800" spc="-1" strike="noStrike" u="sng">
                <a:solidFill>
                  <a:srgbClr val="808080"/>
                </a:solidFill>
                <a:uFillTx/>
                <a:latin typeface="Arial"/>
                <a:hlinkClick r:id="rId2"/>
              </a:rPr>
              <a:t>www.beep.com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00000" y="58053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08080"/>
                </a:solidFill>
                <a:uFillTx/>
                <a:latin typeface="Arial"/>
                <a:hlinkClick r:id="rId3" action="ppaction://hlinksldjump"/>
              </a:rPr>
              <a:t>S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-18144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7c1302"/>
                </a:solidFill>
                <a:latin typeface="Arial"/>
              </a:rPr>
              <a:t>CAMARA Y MICRO</a:t>
            </a:r>
            <a:endParaRPr b="1" lang="en-US" sz="3500" spc="-1" strike="noStrike">
              <a:solidFill>
                <a:srgbClr val="7c1302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116000" y="3789360"/>
            <a:ext cx="2762280" cy="276228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1332000" y="1197000"/>
            <a:ext cx="1666800" cy="190512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4067280" y="1125360"/>
            <a:ext cx="3960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 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40X480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  Formato de video AVI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  USB 1.1"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  Auriculares incluidos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356000" y="4221000"/>
            <a:ext cx="3384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ídeo proyector X16 con contraste 2 000:1, luminosidad 2.400 y resolución nativa SVGA. Chip DLP BrilliantColor que proporciona un resultado cromático excepcional y altavoz de 5W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692360" y="299736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c1302"/>
                </a:solidFill>
                <a:latin typeface="Arial"/>
              </a:rPr>
              <a:t>PROYEC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524720" y="630864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78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PANTALLA 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1116000" y="1125360"/>
            <a:ext cx="1600200" cy="18288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3132000" y="1341360"/>
            <a:ext cx="41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ntalla de superficie de pantalla blanca mate de 127 x 170 cm. con una diagonal de 83,8 pulgadas para un formato vídeo 4:3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900000" y="4005360"/>
            <a:ext cx="2229120" cy="197640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1763640" y="3213000"/>
            <a:ext cx="48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c1302"/>
                </a:solidFill>
                <a:latin typeface="Arial"/>
              </a:rPr>
              <a:t>TV DE GRAN TAMAÑ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643280" y="4149720"/>
            <a:ext cx="2232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levisión LCD de 47", HD Ready 1080p, resolución 1920 x 1080, SRS TruSurround XT y 3 x HDM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524720" y="6237360"/>
            <a:ext cx="1297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596360" y="6308640"/>
            <a:ext cx="12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DISCO DURO PORTÁTIL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1258920" y="2349360"/>
            <a:ext cx="2020680" cy="17910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4572000" y="2637000"/>
            <a:ext cx="3384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o duro portátil Iomega Select c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apacidad de 250 G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USB 2.0, tamaño 2.5", 5400 rpm, memoria caché 8MB y Pulg. &amp; pla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084720" y="566100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ICINA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IMPRESORAS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684360" y="4724280"/>
            <a:ext cx="2243160" cy="18669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684360" y="155736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c1302"/>
                </a:solidFill>
                <a:latin typeface="Arial"/>
              </a:rPr>
              <a:t>LÁS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258920" y="3933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c1302"/>
                </a:solidFill>
                <a:latin typeface="Arial"/>
              </a:rPr>
              <a:t>TIN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4000" y="4221000"/>
            <a:ext cx="3384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mpresora de inyección de tinta con resolución hasta 4800x1200ppp, velocidad impresión B/N/color hasta 22/17ppm, corrección automática de imagen y bandeja de salida con senso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1042920" y="2060640"/>
            <a:ext cx="1873440" cy="164304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3276720" y="1844640"/>
            <a:ext cx="381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mpresora láser color Phaser 6125: (basada en host/Gdi) 12 ppm en color, 16 ppm monocromo, 600 x 600 ppp, conexión en red, procesador de 333Mhz, 64MB de memoria DDR2, 220 Volti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443640" y="638172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ICINA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INDICE 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808080"/>
                </a:solidFill>
                <a:uFillTx/>
                <a:latin typeface="Arial"/>
                <a:hlinkClick r:id="rId1" action="ppaction://hlinksldjump"/>
              </a:rPr>
              <a:t>SU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808080"/>
                </a:solidFill>
                <a:uFillTx/>
                <a:latin typeface="Arial"/>
                <a:hlinkClick r:id="rId2" action="ppaction://hlinksldjump"/>
              </a:rPr>
              <a:t>OFICINA 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808080"/>
                </a:solidFill>
                <a:uFillTx/>
                <a:latin typeface="Arial"/>
                <a:hlinkClick r:id="rId3" action="ppaction://hlinksldjump"/>
              </a:rPr>
              <a:t>OFICINA 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808080"/>
                </a:solidFill>
                <a:uFillTx/>
                <a:latin typeface="Arial"/>
                <a:hlinkClick r:id="rId4" action="ppaction://hlinksldjump"/>
              </a:rPr>
              <a:t>OFICINA 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808080"/>
                </a:solidFill>
                <a:uFillTx/>
                <a:latin typeface="Arial"/>
                <a:hlinkClick r:id="rId5" action="ppaction://hlinksldjump"/>
              </a:rPr>
              <a:t>DESPACHOS 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808080"/>
                </a:solidFill>
                <a:uFillTx/>
                <a:latin typeface="Arial"/>
                <a:hlinkClick r:id="rId6" action="ppaction://hlinksldjump"/>
              </a:rPr>
              <a:t>DESPACHOS 2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808080"/>
                </a:solidFill>
                <a:uFillTx/>
                <a:latin typeface="Arial"/>
                <a:hlinkClick r:id="rId7" action="ppaction://hlinksldjump"/>
              </a:rPr>
              <a:t>DESPACHOS 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SUM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719000"/>
            <a:ext cx="5267160" cy="48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808080"/>
                </a:solidFill>
                <a:uFillTx/>
                <a:latin typeface="Arial"/>
                <a:hlinkClick r:id="rId1" action="ppaction://hlinksldjump"/>
              </a:rPr>
              <a:t>Ordenador completo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620.00€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808080"/>
                </a:solidFill>
                <a:uFillTx/>
                <a:latin typeface="Arial"/>
                <a:hlinkClick r:id="rId2" action="ppaction://hlinksldjump"/>
              </a:rPr>
              <a:t>Cámara y micro 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14.50€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yector  365.20€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ntalla  62.20€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V de gran tamaño  950.00€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732720" y="630864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08080"/>
                </a:solidFill>
                <a:uFillTx/>
                <a:latin typeface="Arial"/>
                <a:hlinkClick r:id="rId3" action="ppaction://hlinksldjump"/>
              </a:rPr>
              <a:t>IND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                  </a:t>
            </a: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OFICINA 1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 u="sng">
                <a:solidFill>
                  <a:srgbClr val="808080"/>
                </a:solidFill>
                <a:uFillTx/>
                <a:latin typeface="Arial"/>
                <a:hlinkClick r:id="rId1"/>
              </a:rPr>
              <a:t>Ordenador completo  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620.00€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Disco duro portátil      62.00€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Impresora Láser A4    220.00€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Impresora Tinta A2     45.00€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886880" y="6308640"/>
            <a:ext cx="101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08080"/>
                </a:solidFill>
                <a:uFillTx/>
                <a:latin typeface="Arial"/>
                <a:hlinkClick r:id="rId2" action="ppaction://hlinksldjump"/>
              </a:rPr>
              <a:t>IND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                  </a:t>
            </a: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OFICINA 2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808080"/>
                </a:solidFill>
                <a:uFillTx/>
                <a:latin typeface="Arial"/>
                <a:hlinkClick r:id="rId1"/>
              </a:rPr>
              <a:t>Ordenador completo 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620.00€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sco duro portátil      62.00€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mpresora Láser A4    220.00€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mpresora Tinta A2     45.00€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958160" y="6308640"/>
            <a:ext cx="101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08080"/>
                </a:solidFill>
                <a:uFillTx/>
                <a:latin typeface="Arial"/>
                <a:hlinkClick r:id="rId2" action="ppaction://hlinksldjump"/>
              </a:rPr>
              <a:t>IND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                 </a:t>
            </a: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OFICINA 3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rdenador Mac. Para diseño 1.175.00€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sco duro portátil      62.00€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mpresora Láser A4    220.00€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mpresora Tinta A2     45.00€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958160" y="6308640"/>
            <a:ext cx="101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08080"/>
                </a:solidFill>
                <a:uFillTx/>
                <a:latin typeface="Arial"/>
                <a:hlinkClick r:id="rId1" action="ppaction://hlinksldjump"/>
              </a:rPr>
              <a:t>IND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              </a:t>
            </a: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DESPACHOS 1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rdenador fijo          620.00€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rdenador portátil    910.00€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AI                           70.00€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886880" y="6308640"/>
            <a:ext cx="101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08080"/>
                </a:solidFill>
                <a:uFillTx/>
                <a:latin typeface="Arial"/>
                <a:hlinkClick r:id="rId1" action="ppaction://hlinksldjump"/>
              </a:rPr>
              <a:t>IND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            </a:t>
            </a: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DESPACHOS 2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rdenador fijo          620.00€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rdenador portátil    910.00€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AI                           70.00€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958160" y="6308640"/>
            <a:ext cx="101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08080"/>
                </a:solidFill>
                <a:uFillTx/>
                <a:latin typeface="Arial"/>
                <a:hlinkClick r:id="rId1" action="ppaction://hlinksldjump"/>
              </a:rPr>
              <a:t>IND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                   </a:t>
            </a: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DESPACHOS 3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rdenador fijo          620.00€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rdenador portátil    910.00€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AI                           70.00€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886880" y="6237360"/>
            <a:ext cx="101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08080"/>
                </a:solidFill>
                <a:uFillTx/>
                <a:latin typeface="Arial"/>
                <a:hlinkClick r:id="rId1" action="ppaction://hlinksldjump"/>
              </a:rPr>
              <a:t>IND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3T10:41:13Z</dcterms:created>
  <dc:creator>Usuario</dc:creator>
  <dc:description/>
  <dc:language>en-US</dc:language>
  <cp:lastModifiedBy>Usuario</cp:lastModifiedBy>
  <dcterms:modified xsi:type="dcterms:W3CDTF">2009-10-20T11:01:26Z</dcterms:modified>
  <cp:revision>4</cp:revision>
  <dc:subject/>
  <dc:title>Diapositiva 1</dc:title>
</cp:coreProperties>
</file>